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D76-7BDC-44DC-B1EB-4F1E8BFF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353-7CAC-4EE3-96E2-E0BD6001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C4A-78EA-43E1-94C0-910B7362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2B3-C42A-4707-B604-3D026D54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B41-8B61-4F4F-97B6-F6FCFAB8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91B-D582-48E1-89B7-6F3CD14C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AFA-BC5A-458B-8E01-E624F6C6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DD3-1DB0-4AE3-BF59-7A846879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A28-1ED3-4A71-B8E8-8DB7EA73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B34-776B-4FC1-A15E-7B1ABE58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D2B-D2E2-4936-9EA6-23B8D0E3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432F-0E53-4771-ABE5-D11B0D06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47FB-ECEC-4C1E-860F-814BEC98E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607000" cy="720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14600" cy="630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2057400"/>
            <a:ext cx="655344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086600" cy="275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7543800" cy="106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14600" y="4038480"/>
            <a:ext cx="1447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7712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7925040" cy="194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1752480"/>
            <a:ext cx="6324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685800"/>
            <a:ext cx="6858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978360" cy="6324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76520" y="2514600"/>
            <a:ext cx="17524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809880"/>
            <a:ext cx="243864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4:17:53Z</dcterms:created>
  <dc:creator>grahams</dc:creator>
  <dc:description/>
  <dc:language>en-US</dc:language>
  <cp:lastModifiedBy>grahams</cp:lastModifiedBy>
  <dcterms:modified xsi:type="dcterms:W3CDTF">2012-03-22T12:53:03Z</dcterms:modified>
  <cp:revision>2</cp:revision>
  <dc:subject/>
  <dc:title>Slide 1</dc:title>
</cp:coreProperties>
</file>